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20.png" ContentType="image/png"/>
  <Override PartName="/ppt/media/image28.jpeg" ContentType="image/jpeg"/>
  <Override PartName="/ppt/media/image30.png" ContentType="image/png"/>
  <Override PartName="/ppt/media/image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E03-87DF-4CF6-8F6D-061308AE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673-C7BA-4D11-B20D-EAF4E37F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EEDB4-EE7B-4309-BE06-9326930B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60DE7-2E0A-4852-BD3A-6F9A31F2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86135-B9B8-491D-8827-5BA74412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B927A-0213-4747-8973-5AC69842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E14D2-BF9F-4801-B832-F04F22B5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1EBE7-6FAB-469F-98CF-B38CBAAE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4E6AF-B9C2-4B68-A1E2-E41801DA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50E17-5D39-455C-A4E9-4218E3CF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317D7-52DC-4610-AC94-601ABF90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41991-EA46-44A4-8060-1423DD8C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2BD-29FD-47C6-84D9-37B3893A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D8F22-377B-49C7-AFAF-E95219D9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CA353-6AD6-4302-BDC8-3225D4C0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DEA60-F49F-46A2-A042-400A155C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15975-130E-486A-A93C-58979346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F49AB-FBF0-450E-8D28-AE099AED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34585-91BC-4F8B-9D03-28A3D32F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BD5CB-12BE-47A0-8114-44582132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E547C-63D2-4D81-9148-0E556121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50397-BCD7-47AF-896E-E1071408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CD2C5-9797-414A-AD45-1773F6F0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7EE-EDD6-4AA5-9C16-9B49E359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3EE3E-E8C6-4B41-A86A-2407FA1E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37C7A-DD31-413F-A0CC-4AE0EE19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7CE07-C52E-4317-8AD5-1FB9A1F0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540FB-E3CE-42AE-B8EF-B157300F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501BE-880F-441E-9BEF-241838FC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50918-1658-4E12-B22A-4F726ADA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A521F-A00D-4617-822A-2EEEB009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BE9C3-82B8-4A21-94CD-16E7A6E4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BFB56-03E1-405B-9C88-BF12AF33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6AB69-AD4D-4160-A664-25882B89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F54F-DA30-4875-B3A4-ED0365CC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46FF0-2AAD-44A7-AD11-8C40082F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6B1D7-0599-4AC0-AC54-75FAF790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CB0A8-74B2-4251-923D-68A44803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04F1F-275E-4723-9982-86B87500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53B0E-017C-4160-9721-915F2B61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19E27-5D00-4AFC-A7C8-24F9CE2D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1A9C9-608A-4549-927F-1E594D96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36F16-361E-40DE-8F29-5F6EE51B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AA9B3-9F45-403D-83C2-D3D9B815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51DF0-98D1-45AE-9B95-64DF6A96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3A1A-A5E2-45E2-BDA4-5B638E9D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C6C0B-EC86-41C4-8EA3-4816406C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5DB28-CB78-4ECE-99CA-D6687517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26157-3F93-4946-8F9D-A610C324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EAF11-F13C-4639-B1F9-5309EABA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1B96D-3989-41A5-AA03-960DACDA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CE930-6BAA-42FE-B27C-0D6B2D0C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56EDD-99C1-45E3-8B16-B82EBEFF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95D1F-82E0-476A-86D2-C04CC1BE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2C9D7-5AC9-4206-A5AF-E1EF0A3E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DE182-A874-4C39-9E5B-343A02A2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AE69-9159-4616-9F11-C4D3461A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5B73B1-D24B-4969-AD3C-EFB3A8B4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238DC-B26F-42AE-A13E-AF8BB575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1C625-7081-48A3-93AF-3551C483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D1CAF-B268-4148-B1FE-100EE0B0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4FEEF-A487-4F9D-A2DD-24C46111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8FB5AD-03A0-40F5-AAA4-F2F1DE68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848E2-2336-4681-A62B-5B17949C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271F7-2231-4CB9-B70E-456538A8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4095A-2F61-4FBD-9DBB-FE3957C5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6BE9A-431A-4AAD-A004-5E0DBFF6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6CE8-A2A0-41B0-934D-BC46FC9C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1301E-F8DD-407F-A87B-A954F00E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70DF1-9865-4BE5-A192-22CD4780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0E76E-E173-421C-9514-2B3F1C5A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76022-D1AC-4115-8DDD-B1478344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665A0-02DB-42EE-8CBC-AB7B9A15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68FC6-04CD-4AEE-9DB2-FA0ABF8D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4D4A0-9A38-4360-99A7-A4167BBC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055DD0-14D0-48D7-B807-7B3B2B65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23240-0C09-440A-979D-AA8575D8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F8C9A-E0D6-4D47-8039-57E7BB00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BA4F-CD51-459B-B7CD-CE4A6047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A549F-716B-4ECD-BA70-5148AD04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CC77D-F765-49BC-B154-8378CF1A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28483A-1AA7-46F3-B668-336F4EE5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1BBA8A-9605-455F-A10B-84A120D0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65B7D5-4C76-49DE-B6BA-BB5080A9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8F6336-CECD-4B38-841D-4B818491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8EAEA-A4E0-442B-ABA0-B19E9F53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CCF97F-127F-4B2E-9E0C-ABF3FBA5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39EFF-97D5-4B19-ACBE-DF27C0AA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F43CC6-42D9-4E8B-8324-3289B12C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BA76-E2A1-4E93-8153-EEF6CE5B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6E40E2-EF69-47E6-B492-AAD31866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18AC18-3725-4256-A3EC-B5972CFA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B39A10-BA43-47E0-AFC6-41633424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87BFF5-885A-4DBF-BCE9-4819EDE9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089DA-09CD-4EF6-8D4F-FF544B9E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46DB71-7A04-4F4B-B3DC-6262BC69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6A5CE-FE6B-49CA-B68C-E2EF729D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89CD32-8328-44A2-A653-BB711274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B03A64-F4CE-4DF6-ACC9-67CABF12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0A0E76-9DB2-4A20-B78C-38C71D57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A5EF-5A6E-41F3-BD53-F827B41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51416A-7ED4-4021-A6D7-7222E9E8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97B191-C2EE-4EE3-B0BC-FA81A877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A00815-35C2-457F-8A25-36C12407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344419-807A-486E-85D3-A5C78C9D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C398F5-4CC4-4273-A537-CA445C72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6928F-DFFF-467C-BAF2-B0C904AE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237B25-FFCC-43E7-96DD-977B0062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A500F6-E598-4253-B0D9-C4A7CDF9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7D9778-EE8C-48AE-B48D-6E6C78D0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42566E-D728-4AEA-BD6B-79A001C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367-A4EC-4088-BFC2-54F81586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2943-E4A1-403A-A3AC-3A528F85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1E78D3-7A5D-43D3-9ECF-E880CCB5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7B96EE-C818-4427-BBE7-4ED4D5CA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7CC004-3E82-4B27-AEE0-C75246EE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340029-C14A-4D42-9670-E64D26BC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2EBFA7-43CC-42EB-BDEF-028AF7F8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6BD0CD-8DAA-4F70-A755-5C4C9BA7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E588B4-4803-44CA-AF0C-6230C883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504404-AA64-4E0B-A052-99BC1B82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CAA1A9-E5B4-4378-9C27-1330DCC3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7CD322-AC9A-4FE8-9C1C-66388E77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B8E2-B721-42D4-92E7-6DACF125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038841-E97C-4C7B-9AB1-9FA63C9D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BD569-D55B-4A09-9A4A-FD60CFD5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06C363-47FA-4731-A784-C3A8465A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790A7-DE75-4CE2-9520-6D73C71C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50BDAB-7B84-4410-8113-C4995B58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4B4EA4-A6F0-44F0-B6FB-C71CDCEF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16040-A01C-417C-B737-D1CBDC69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5542D7-F5AA-454E-8B82-732F7B94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68E947-BC00-44E9-9ACA-83272FC4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7D20A0-EA8B-46D6-A86B-63F03602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29EA-93E2-42F8-86A4-48AD5811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4F4779-2549-492B-89BE-57ECB653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BF5B88-973F-41C7-BADC-A484F5A1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51AAD9-EC35-4907-B2EC-11D732AA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223FF7-A68E-43D4-B590-93925594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AC2BCD-EDFF-49CD-B728-0B235915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044E28-77EF-45DB-8A21-4A3D6B68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7AF139-5BBF-420E-A3A2-F4CEA456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2F9604-389D-4DE3-A79E-9C37B21E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2FF2D-ECF4-4E04-85DE-0C29A6B6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DCCE0D-421C-4FA3-81DE-B6A084AD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EEA0-EE4B-428F-8C4E-2AC84C77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FC1FA9-94AB-42CD-B3BC-D7C9E251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ECF46E-7613-4E84-9A5A-BB05876B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2BA9CA-89C6-4D80-9D61-EFF4EE4C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48D24B-5F03-45A7-97DA-7F977229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F988C4-950D-43BC-A3E4-A45008F7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04855E-D1D4-4E87-AAE1-7B78500B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8390B9-C8FF-4E22-84DD-24DB695D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F534B7-F789-4A34-B3EE-E9C43699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9DDD52-0B76-4C8E-8A67-39A6DE8E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F79084-E17A-48DB-B8DD-825CA2F1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0A3F-205D-4D96-96DD-FE14D27B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EEBB24-4E4C-4C58-AF7C-EFA48C70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A873EF-769E-488F-9D4B-52A2850D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A5DEE5-024D-4527-B434-A62025C5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1D9829-EBD1-408D-A49B-D8E943D8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ECB84B-03E8-44AF-88F4-FC9D922F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8603EC-80A4-43EA-9833-A941E15E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B17F96-CB8C-4BB9-8DF4-07A74A9C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36FD53-A878-4014-A0C1-F70B035B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B396B0-427F-4122-A1EB-74FE47F0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0FCBB3-E3BC-420F-B4E2-E52DB3C0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91C8-5E54-4E4C-A246-9A1F7A92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5F5EA4-EE3A-4EA5-961C-4E3308B2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B593C6-5715-4E36-8FC9-F3E39576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012034-6610-4EC9-9DF6-97129686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14E97D-6ED6-4EEF-9FE1-03D6BE1B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380444-EBCE-4FCC-AEBE-332E1DC6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F8C1F0-91F5-45BF-9621-45F07D6F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0878F1-85C1-4744-81D1-C0EDE35C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8AE204-BBD3-4E41-81DA-5A14CB13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D8C36A-212E-4F90-885A-C8128BDA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B83744-1B99-4A92-85A0-CBA9F1AD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748FF-B00F-4B2E-BA81-7D506C3A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6D6C34-F65C-44D2-A151-93260BDC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E6A5D8-F6E1-45B3-B6F6-186AA877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A2F814-4E65-4667-B1A7-C00DB200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37B6AF-42FB-4363-82F2-D151B628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13A5CC-0171-42DF-9C55-E2199268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9D39A4-A772-4334-9041-A0611C97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36A778-6D39-4001-9404-B31E5A43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82DBBE-4E28-4D7A-8B4C-68C3361B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6CF9F4-39DC-4992-95D8-6B4717B8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CCD5C6-3CB8-490E-BC76-70218564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B42E-685B-49AE-9E54-728C334D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6752DA-BE4D-4101-9D3A-BEBD6903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CD060B-CA0C-4583-9CD8-73C810FD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36539B-2194-4925-AA9F-83A0F294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56D91F-2869-4A57-ACF0-CB6482B2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F37B99-9A48-4ADD-80E4-0F8E9032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46B634-ABEB-465D-86EF-DA25D201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EBDB88-4692-4917-83CD-BED0A7D4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8B8DD2-B36D-4C68-9416-20F6C04B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CEF675-C313-4F0B-8612-E25FEE60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FD4656-D497-48F4-9F44-6CD4AB9D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42FF8-F822-4E5C-A05B-DAAC63D5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F1EF00-A10B-4039-B461-EACB14A0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C73B11-275D-4424-BB77-60A32CAF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D0C678-F6CE-4BB2-ABF3-66A849AF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A7379C-05E5-45A9-97E9-9A6261E7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1DAD34-46AF-4188-B17C-070B1DD4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6C78CE-E48C-40A6-A070-E0BE4B03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2FCF11-1E0E-4191-8689-C5D20BF9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85F85E-4B38-47DC-A597-C320012D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8A66E3-89D3-48BF-8611-DAE3D9E2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DBCDD1-7393-431E-8C1F-DDC92DD7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DB016-D7EF-4102-8C28-C3A72643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D3F459-092E-45B1-ACD5-1B6B4465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B9E18C-C1D0-4466-9340-E1016F6A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C2E958-288C-47BE-9715-B2FFDD01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1390EA-9FBC-4B37-8239-9C432DCF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6C4EB3-A9BA-4F0B-BC4C-3118D6EE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966399-F580-484C-8AD4-B15949D7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882DCE-1E31-47BF-94BD-63BB1310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3F4D8B-1715-4DA1-88CB-DF84FD61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31F2DA-C860-4CE7-983F-28C8A3D4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62083E-FF9E-4229-B6D8-D71F2D88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D86-17B1-4FC4-AEAA-BE6C696A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1098B-301C-4D91-BB82-A1A52DA9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1AAA1D-9DA4-49BC-AF97-569D1511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1B3935-7810-4444-AAB8-5AC7EE1A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D0F19F-B4F3-4D2E-8388-D12F4D12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082C88-5934-47C4-B594-9E5F5213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564DF6-1F89-4047-8E65-D19DE0E9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0C3047-146B-4A16-B219-70D05882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DECD74-9B47-4A84-9E5A-F5760820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5F49C2-A8A5-41FE-94DF-322D703D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44BFC3-6B51-4028-897B-1D722C21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0B5371-1993-429F-A6D9-DA8EA363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D0E2A-7C58-47EE-BC43-F3A0559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6737E0-78B5-4253-A0B9-E38B272E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91BFD5-6A92-467D-B46C-77669C84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689555-1A91-4E67-B9BC-DE54FF9A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02FD0B-4C49-456D-B5A8-B1C8D395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7EDE60-875C-4B2A-9208-30B8C6E4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7BB660-FB31-4F0C-92A6-AD79D418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74EF20-0D5B-4061-A0DF-E0BE11CE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ED4034-1F04-45CB-88D6-C4335E72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D75FC5-A4B4-4B3A-B2E7-FD649D3E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AD0168-0892-4740-89CD-E8823904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68BDB-0C73-4BA9-8C2C-9EFADF36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530963-3A24-432F-A2AB-44ABF8E1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6F2821-51E4-4AF9-8DEE-D919A2D3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E6A390-C67C-4FFD-A150-42D0EF54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CA64B4-7A0B-4F23-B422-48854188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4F2C08-9031-49AE-A911-B495E88E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118C1C-92D1-4D61-A055-30A0AE78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70D00E-779A-4714-8D51-6B99F679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6F1A70-7157-40F4-A6E8-40D8E9E0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043F61-05D9-4096-A8EE-4CBD0778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A7067E-78D2-4E5B-9C70-D1F003DB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295A7-7A39-4216-8C4E-6CBEC4FA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B0B7D2-D57E-4EE2-8042-12EB4F18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1229BD-16DD-47A5-B153-24C916B0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97A989-B176-461C-9A89-8747053C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2C53F3-6926-4C4E-A297-5800A721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0D31C7-E082-4265-8002-445DA695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429C6A-2981-4FBD-AF09-CB2E712F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F43766-9981-4D08-A99E-DD984A58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22792-6AD2-4A14-8988-CF337533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6CD7B-18B9-478A-A88E-4D0C8C9F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8D84-1EBF-4E3E-9A62-14DFE60D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1029A-D688-4A41-8EA3-A5D6F908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27169-DD59-42E5-B6CA-B0B68BAE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6BD8F-05DE-40BC-BFE6-8FA8453E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2F1-EAA0-4552-8682-B2D29654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3E100-FFB2-4F80-AD53-52AB46C6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189E0-BB42-4EE9-994F-DA4A9243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1B657-3392-40B0-9523-5D257602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DA152-2B1B-494E-9041-A3EEAD55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9A2BA-02D6-474E-91D3-D45D7BCB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C815C-45A5-459C-B2B8-87A8166C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BB847-D297-4DDE-A1AF-E80031E4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A4DD9-8DA5-4238-BD10-51B68BD0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262B9-6FF6-4630-BCC0-0C003C03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D83B3-4F8D-429D-AA2A-982C5CCA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0534-674C-4A5B-BC71-505B83B5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C1243-085F-4679-8FAD-80745A08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139FC-B030-40A5-9C85-5D7F9F69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C2D5E-EF72-4507-8474-5C023D38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8CA06-94EF-4DF4-B203-D3B61278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91F65-D468-4F23-B6A3-1DF1545E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78B61-675E-4DB9-8770-5086BECE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CE62E-3908-4370-8028-62A71CA2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5154D-24A0-46D0-85EA-BE2120AF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31814-5CE5-4D41-8E7A-4AF3DDEF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ACAE4-BA58-4EC8-9803-8BB4B7E8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650-92DB-48EF-B6C4-381F1A8A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8288E-667D-4367-B4E3-63DA4F7C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39E7C-5803-4F51-AFFC-CE88543F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D098D-AE46-4C5B-9BA7-10B23585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AA1F1-D326-49D0-B7B4-2FF55938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87440-0587-4F87-99FA-6230D86B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182AD-E9E5-4F0A-A402-6D8A0DF4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EE743-5CD3-4F56-A056-C09D2251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20F48-A894-4E32-8E87-B79452A5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32ACB-9ED3-4E74-AD0E-ADACFF54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23CA0-ECBC-4AE4-89F2-77AFA7BE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F18-3B41-4595-A382-818D16EF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F99F6-A4D1-466A-9CDC-B9ACD68F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F439B-E21B-44C5-BDCE-DCB3A2F2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4171A-8ADB-452F-95C5-6EF7BF95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43916-3BD0-47A0-93F5-0D4B077A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A1651-B61C-4A38-9717-28AD8867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3202D-036A-490B-8DBD-16962A6B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13075-C276-4739-A79C-3536E955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4359B-4C7D-4A69-AC7C-2BC1B4FD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2D1C5-3ED2-4512-A2BF-DDFCA1F4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52870-93C2-476B-9D90-C1C8679B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858-1A73-42DD-BF85-0F99D0D4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77074-5330-4093-91E2-21E7BD3C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82993-AB4F-4948-8CE4-DF645FC7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2DCDC-3AF3-4B49-83F8-3EE95E93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DA4E2-FD9C-4145-ABB2-212EE79C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4E3CD-26B3-4866-87D9-FF7F3A10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EF630-B9AA-4A11-A03E-AFCC33F9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15CB4-703D-415F-8141-FE024D6A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96D52-5454-45C0-9226-FC98306D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444AB-2D80-4F2E-BF20-E286DFB3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91A98-C491-4F31-8C51-ECD3BC2C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EA8-7547-4338-8238-03D37DE8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3E8B2-CC9E-45F6-8E31-6DA5B714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0481D-AFAB-4B24-89AD-45034623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D6B2A-7C8B-4E24-85E2-0C3B4E84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AD8AA-235C-43A6-9389-F196AB04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68BF2-FAC3-4D2C-B7E2-3A8FA0E4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D7604-417B-4A2B-B6B6-6DA50389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970EB-14BE-4B11-BECF-D1E8D031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69A46-33FF-483F-A554-AD5C65E8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15FA7-3502-4BDA-9045-59E051A4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22FAA-CADB-4F70-AE92-F0E95175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A671-F91E-46B0-A3A2-645F37B40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C3A9-BBCF-4FD1-9839-C8F5793E3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F36C-762A-4D58-8858-0694BE1E8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EE1A-D05A-4ABE-8088-86A697738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3787-1015-47D4-8A60-CD77B8734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27E7-2D6A-4B31-A948-D6F1DB9A4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EF4D-5DBB-43B3-8233-1408B61F4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EFD7-8A68-4504-A71B-969E16280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764C-0642-4FA1-AE26-F627D38D5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EE4B-14D4-4E86-83E3-C31190AB0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8656-A8D4-4F66-A5BB-78D7A02E6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DFAF-8C2F-4163-8C36-12F1272C6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1519-1626-42A4-93AB-292E13708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6AC1-EBC9-445D-B14F-724771683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B77B-A60E-48F6-979F-9D7202950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B98E-DB3C-4FDB-8FA6-8DBEB6C0B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0C19-02AA-47A8-A635-053CA452D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6C5C-C525-4031-BCF0-8B96734B8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4719-2538-4F28-8BE8-0E0C98517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2DBE-0DB8-4991-94C3-8F644E065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1AF1-F617-43C6-A2BD-CF133ABEC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1C40-6E07-437C-ACAA-BBA55D8F3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16B8-DB68-40A5-8F61-C25E646C5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a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BFF2-3AE5-4A33-A60C-B3781A13C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E87B-7807-4BA9-A30C-E434D8F37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058B-66C1-48DF-B27B-D9F90EE84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7EA1-1F0E-406D-B9D0-BE7C09A87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9D93-7BEE-418F-AC4F-B5C951BA6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2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9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0" y="143640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ма урока:</a:t>
            </a:r>
            <a:r>
              <a:rPr b="1" lang="en-US" sz="4000" spc="-1" strike="noStrike">
                <a:solidFill>
                  <a:srgbClr val="663300"/>
                </a:solidFill>
                <a:latin typeface="Monotype Corsiva"/>
              </a:rPr>
              <a:t> </a:t>
            </a:r>
            <a:br>
              <a:rPr sz="4000"/>
            </a:br>
            <a:r>
              <a:rPr b="0" lang="en-US" sz="7200" spc="-1" strike="noStrike">
                <a:solidFill>
                  <a:srgbClr val="663300"/>
                </a:solidFill>
                <a:latin typeface="Monotype Corsiva"/>
              </a:rPr>
              <a:t>«Второе путешествие </a:t>
            </a:r>
            <a:br>
              <a:rPr sz="7200"/>
            </a:br>
            <a:r>
              <a:rPr b="0" lang="en-US" sz="7200" spc="-1" strike="noStrike">
                <a:solidFill>
                  <a:srgbClr val="663300"/>
                </a:solidFill>
                <a:latin typeface="Monotype Corsiva"/>
              </a:rPr>
              <a:t>в музыкальный театр»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77491f"/>
                </a:solidFill>
                <a:latin typeface="Monotype Corsiva"/>
              </a:rPr>
              <a:t>	</a:t>
            </a:r>
            <a:r>
              <a:rPr b="0" lang="en-US" sz="5400" spc="-1" strike="noStrike">
                <a:solidFill>
                  <a:srgbClr val="77491f"/>
                </a:solidFill>
                <a:latin typeface="Monotype Corsiv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1980" fill="hold"/>
                                        <p:tgtEl>
                                          <p:spTgt spid="1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365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852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Звучит полонез и танцует поляк,</a:t>
            </a: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5"/>
          <p:cNvSpPr/>
          <p:nvPr/>
        </p:nvSpPr>
        <p:spPr>
          <a:xfrm>
            <a:off x="1045440" y="1197000"/>
            <a:ext cx="593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А хота – конечно испанец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6"/>
          <p:cNvSpPr/>
          <p:nvPr/>
        </p:nvSpPr>
        <p:spPr>
          <a:xfrm>
            <a:off x="975600" y="1844640"/>
            <a:ext cx="74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А если «Камаринская» зазвучит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7"/>
          <p:cNvSpPr/>
          <p:nvPr/>
        </p:nvSpPr>
        <p:spPr>
          <a:xfrm>
            <a:off x="975240" y="256536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Исполнят для вас русский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0" name="" descr=""/>
          <p:cNvPicPr/>
          <p:nvPr/>
        </p:nvPicPr>
        <p:blipFill>
          <a:blip r:embed="rId2"/>
          <a:srcRect l="613" t="19874" r="0" b="7112"/>
          <a:stretch/>
        </p:blipFill>
        <p:spPr>
          <a:xfrm>
            <a:off x="2438280" y="1903320"/>
            <a:ext cx="4365720" cy="433404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1371" name="Picture 9" descr="Хоакин Соролла е Бастида Арагонская хота 1914 г"/>
          <p:cNvPicPr/>
          <p:nvPr/>
        </p:nvPicPr>
        <p:blipFill>
          <a:blip r:embed="rId3"/>
          <a:srcRect l="3137" t="16861" r="4352" b="5663"/>
          <a:stretch/>
        </p:blipFill>
        <p:spPr>
          <a:xfrm>
            <a:off x="2411280" y="1909800"/>
            <a:ext cx="4368960" cy="432756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1372" name="" descr=""/>
          <p:cNvPicPr/>
          <p:nvPr/>
        </p:nvPicPr>
        <p:blipFill>
          <a:blip r:embed="rId4"/>
          <a:srcRect l="688" t="4594" r="860" b="0"/>
          <a:stretch/>
        </p:blipFill>
        <p:spPr>
          <a:xfrm>
            <a:off x="2340000" y="3213000"/>
            <a:ext cx="4537080" cy="30006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</p:spTree>
  </p:cSld>
  <p:transition spd="slow"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374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46"/>
          <p:cNvSpPr/>
          <p:nvPr/>
        </p:nvSpPr>
        <p:spPr>
          <a:xfrm>
            <a:off x="4284720" y="3952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Т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   Н   Е   Ц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19" name="Rectangle 3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Monotype Corsiva"/>
              </a:rPr>
              <a:t>БАЛЕ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4"/>
          <p:cNvSpPr/>
          <p:nvPr/>
        </p:nvSpPr>
        <p:spPr>
          <a:xfrm>
            <a:off x="826920" y="2273400"/>
            <a:ext cx="7632720" cy="36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- (французское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ballo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, буквально - танец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Музыкально   –      хореографический спектакль,   в     котором         органически сочетаются музыка, танец, драматическое действие   и   элементы  изобразитель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22" name="Rectangle 3"/>
          <p:cNvSpPr/>
          <p:nvPr/>
        </p:nvSpPr>
        <p:spPr>
          <a:xfrm>
            <a:off x="0" y="847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Monotype Corsiva"/>
              </a:rPr>
              <a:t>ЛИБРЕТТ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4"/>
          <p:cNvSpPr/>
          <p:nvPr/>
        </p:nvSpPr>
        <p:spPr>
          <a:xfrm>
            <a:off x="1187280" y="2363760"/>
            <a:ext cx="7632720" cy="31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итал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ьянское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libretto, буквально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 книжечка)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ткое изложение содержания оперы,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перетты,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балета.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Л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ибретто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представляет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обой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литературно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драматическую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основу оп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25" name="Text Box 3"/>
          <p:cNvSpPr/>
          <p:nvPr/>
        </p:nvSpPr>
        <p:spPr>
          <a:xfrm>
            <a:off x="4211640" y="1125360"/>
            <a:ext cx="47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3300"/>
                </a:solidFill>
                <a:latin typeface="Times New Roman"/>
              </a:rPr>
              <a:t>Театр уж полон; ложи блещут;</a:t>
            </a:r>
            <a:br>
              <a:rPr sz="2200"/>
            </a:br>
            <a:r>
              <a:rPr b="1" i="1" lang="en-US" sz="2200" spc="-1" strike="noStrike">
                <a:solidFill>
                  <a:srgbClr val="663300"/>
                </a:solidFill>
                <a:latin typeface="Times New Roman"/>
              </a:rPr>
              <a:t>Партер и кресла, всё кипит;</a:t>
            </a:r>
            <a:br>
              <a:rPr sz="2200"/>
            </a:br>
            <a:r>
              <a:rPr b="1" i="1" lang="en-US" sz="2200" spc="-1" strike="noStrike">
                <a:solidFill>
                  <a:srgbClr val="663300"/>
                </a:solidFill>
                <a:latin typeface="Times New Roman"/>
              </a:rPr>
              <a:t>В райке нетерпеливо плещут,</a:t>
            </a:r>
            <a:br>
              <a:rPr sz="2200"/>
            </a:br>
            <a:r>
              <a:rPr b="1" i="1" lang="en-US" sz="2200" spc="-1" strike="noStrike">
                <a:solidFill>
                  <a:srgbClr val="663300"/>
                </a:solidFill>
                <a:latin typeface="Times New Roman"/>
              </a:rPr>
              <a:t>И, взвившись, занавес шумит.</a:t>
            </a:r>
            <a:r>
              <a:rPr b="1" lang="en-US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663300"/>
                </a:solidFill>
                <a:latin typeface="Times New Roman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6" name="Picture 4" descr="Кипренский1"/>
          <p:cNvPicPr/>
          <p:nvPr/>
        </p:nvPicPr>
        <p:blipFill>
          <a:blip r:embed="rId2">
            <a:lum bright="-6000"/>
          </a:blip>
          <a:srcRect l="3160" t="0" r="0" b="0"/>
          <a:stretch/>
        </p:blipFill>
        <p:spPr>
          <a:xfrm>
            <a:off x="828720" y="1197000"/>
            <a:ext cx="3421080" cy="44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27" name="Picture 5" descr="napishi"/>
          <p:cNvPicPr/>
          <p:nvPr/>
        </p:nvPicPr>
        <p:blipFill>
          <a:blip r:embed="rId3"/>
          <a:stretch/>
        </p:blipFill>
        <p:spPr>
          <a:xfrm>
            <a:off x="4861080" y="3795840"/>
            <a:ext cx="3024000" cy="186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Пётр Ильич </a:t>
            </a:r>
            <a:br>
              <a:rPr sz="6600"/>
            </a:b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Чайковский </a:t>
            </a:r>
            <a:br>
              <a:rPr sz="6600"/>
            </a:b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Балет – сказка «Щелкунчик»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31" name="Text Box 3"/>
          <p:cNvSpPr/>
          <p:nvPr/>
        </p:nvSpPr>
        <p:spPr>
          <a:xfrm>
            <a:off x="762120" y="5486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Горизонтальный свиток 3"/>
          <p:cNvSpPr/>
          <p:nvPr/>
        </p:nvSpPr>
        <p:spPr>
          <a:xfrm>
            <a:off x="2771640" y="476280"/>
            <a:ext cx="3745080" cy="9367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1892 </a:t>
            </a: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г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5"/>
          <p:cNvSpPr/>
          <p:nvPr/>
        </p:nvSpPr>
        <p:spPr>
          <a:xfrm>
            <a:off x="0" y="5661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Мариинский театр вторая половина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XIX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4" name="Picture 6" descr="mt_3"/>
          <p:cNvPicPr/>
          <p:nvPr/>
        </p:nvPicPr>
        <p:blipFill>
          <a:blip r:embed="rId2">
            <a:grayscl/>
            <a:lum contrast="6000"/>
          </a:blip>
          <a:srcRect l="0" t="0" r="0" b="16248"/>
          <a:stretch/>
        </p:blipFill>
        <p:spPr>
          <a:xfrm>
            <a:off x="826920" y="1484280"/>
            <a:ext cx="7561440" cy="40845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1435" name="Rectangle 8"/>
          <p:cNvSpPr/>
          <p:nvPr/>
        </p:nvSpPr>
        <p:spPr>
          <a:xfrm>
            <a:off x="6070320" y="1557360"/>
            <a:ext cx="2440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2d00"/>
                </a:solidFill>
                <a:latin typeface="Monotype Corsiva"/>
              </a:rPr>
              <a:t>П. И.Чайковский</a:t>
            </a:r>
            <a:br>
              <a:rPr sz="2000"/>
            </a:br>
            <a:r>
              <a:rPr b="1" lang="en-US" sz="1600" spc="-1" strike="noStrike">
                <a:solidFill>
                  <a:srgbClr val="5a2d00"/>
                </a:solidFill>
                <a:latin typeface="Times New Roman"/>
              </a:rPr>
              <a:t>Компози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9"/>
          <p:cNvSpPr/>
          <p:nvPr/>
        </p:nvSpPr>
        <p:spPr>
          <a:xfrm>
            <a:off x="716400" y="2565360"/>
            <a:ext cx="2242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2d00"/>
                </a:solidFill>
                <a:latin typeface="Monotype Corsiva"/>
              </a:rPr>
              <a:t>Мариус Петипа</a:t>
            </a:r>
            <a:br>
              <a:rPr sz="3200"/>
            </a:b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Балетмейстер 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4"/>
          <p:cNvSpPr/>
          <p:nvPr/>
        </p:nvSpPr>
        <p:spPr>
          <a:xfrm>
            <a:off x="1187280" y="4437000"/>
            <a:ext cx="1081080" cy="11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8" name="Picture 18" descr="М"/>
          <p:cNvPicPr/>
          <p:nvPr/>
        </p:nvPicPr>
        <p:blipFill>
          <a:blip r:embed="rId3"/>
          <a:srcRect l="0" t="0" r="0" b="22282"/>
          <a:stretch/>
        </p:blipFill>
        <p:spPr>
          <a:xfrm>
            <a:off x="826920" y="3049560"/>
            <a:ext cx="2278080" cy="2540160"/>
          </a:xfrm>
          <a:prstGeom prst="rect">
            <a:avLst/>
          </a:prstGeom>
          <a:ln w="0">
            <a:noFill/>
          </a:ln>
        </p:spPr>
      </p:pic>
      <p:sp>
        <p:nvSpPr>
          <p:cNvPr id="1439" name="Oval 19"/>
          <p:cNvSpPr/>
          <p:nvPr/>
        </p:nvSpPr>
        <p:spPr>
          <a:xfrm>
            <a:off x="6948360" y="3429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Picture 22" descr="Чайковский 8 "/>
          <p:cNvPicPr/>
          <p:nvPr/>
        </p:nvPicPr>
        <p:blipFill>
          <a:blip r:embed="rId4"/>
          <a:srcRect l="0" t="0" r="7310" b="5703"/>
          <a:stretch/>
        </p:blipFill>
        <p:spPr>
          <a:xfrm>
            <a:off x="6361200" y="2205000"/>
            <a:ext cx="19857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42" name="Text Box 3"/>
          <p:cNvSpPr/>
          <p:nvPr/>
        </p:nvSpPr>
        <p:spPr>
          <a:xfrm>
            <a:off x="5003640" y="1484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AutoShape 4"/>
          <p:cNvSpPr/>
          <p:nvPr/>
        </p:nvSpPr>
        <p:spPr>
          <a:xfrm>
            <a:off x="3276720" y="333360"/>
            <a:ext cx="2808000" cy="3097080"/>
          </a:xfrm>
          <a:custGeom>
            <a:avLst/>
            <a:gdLst>
              <a:gd name="textAreaLeft" fmla="*/ 351000 w 2808000"/>
              <a:gd name="textAreaRight" fmla="*/ 2457000 w 2808000"/>
              <a:gd name="textAreaTop" fmla="*/ 774360 h 3097080"/>
              <a:gd name="textAreaBottom" fmla="*/ 2323080 h 3097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5"/>
          <p:cNvSpPr/>
          <p:nvPr/>
        </p:nvSpPr>
        <p:spPr>
          <a:xfrm>
            <a:off x="3227400" y="1125360"/>
            <a:ext cx="2784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Пётр Ильич Чайковский         </a:t>
            </a:r>
            <a:r>
              <a:rPr b="1" lang="en-US" sz="2000" spc="-1" strike="noStrike">
                <a:solidFill>
                  <a:srgbClr val="ffffcc"/>
                </a:solidFill>
                <a:latin typeface="Monotype Corsiva"/>
              </a:rPr>
              <a:t>Балет                        «Щелкунч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AutoShape 6"/>
          <p:cNvSpPr/>
          <p:nvPr/>
        </p:nvSpPr>
        <p:spPr>
          <a:xfrm>
            <a:off x="3276720" y="3429000"/>
            <a:ext cx="2808000" cy="3168720"/>
          </a:xfrm>
          <a:custGeom>
            <a:avLst/>
            <a:gdLst>
              <a:gd name="textAreaLeft" fmla="*/ 351000 w 2808000"/>
              <a:gd name="textAreaRight" fmla="*/ 2457000 w 2808000"/>
              <a:gd name="textAreaTop" fmla="*/ 792000 h 3168720"/>
              <a:gd name="textAreaBottom" fmla="*/ 237672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7"/>
          <p:cNvSpPr/>
          <p:nvPr/>
        </p:nvSpPr>
        <p:spPr>
          <a:xfrm>
            <a:off x="3276720" y="4076640"/>
            <a:ext cx="266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Эрнст Теодор Амадей Гофман</a:t>
            </a:r>
            <a:r>
              <a:rPr b="1" lang="en-US" sz="2000" spc="-1" strike="noStrike">
                <a:solidFill>
                  <a:srgbClr val="ffffcc"/>
                </a:solidFill>
                <a:latin typeface="Monotype Corsiva"/>
              </a:rPr>
              <a:t>  Сказка            «Щелкунчик и мышиный коро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7" name="Picture 8" descr="75847portrait-of-piotr-ilyich-tchaikovsky-1840-93-russian-composer-1893-posters"/>
          <p:cNvPicPr/>
          <p:nvPr/>
        </p:nvPicPr>
        <p:blipFill>
          <a:blip r:embed="rId2"/>
          <a:srcRect l="4439" t="6224" r="5032" b="11028"/>
          <a:stretch/>
        </p:blipFill>
        <p:spPr>
          <a:xfrm>
            <a:off x="1176480" y="836640"/>
            <a:ext cx="2095200" cy="254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48" name="Picture 9" descr="908"/>
          <p:cNvPicPr/>
          <p:nvPr/>
        </p:nvPicPr>
        <p:blipFill>
          <a:blip r:embed="rId3">
            <a:lum bright="-6000"/>
          </a:blip>
          <a:srcRect l="0" t="0" r="0" b="1016"/>
          <a:stretch/>
        </p:blipFill>
        <p:spPr>
          <a:xfrm>
            <a:off x="6075360" y="692280"/>
            <a:ext cx="1952640" cy="277956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1449" name="Picture 10" descr="3200"/>
          <p:cNvPicPr/>
          <p:nvPr/>
        </p:nvPicPr>
        <p:blipFill>
          <a:blip r:embed="rId4">
            <a:lum bright="-12000"/>
          </a:blip>
          <a:srcRect l="4660" t="0" r="2156" b="0"/>
          <a:stretch/>
        </p:blipFill>
        <p:spPr>
          <a:xfrm>
            <a:off x="1173240" y="3500280"/>
            <a:ext cx="2070000" cy="2594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50" name="Picture 11" descr="exmo9016522big"/>
          <p:cNvPicPr/>
          <p:nvPr/>
        </p:nvPicPr>
        <p:blipFill>
          <a:blip r:embed="rId5">
            <a:lum bright="-6000"/>
          </a:blip>
          <a:srcRect l="0" t="0" r="0" b="366"/>
          <a:stretch/>
        </p:blipFill>
        <p:spPr>
          <a:xfrm>
            <a:off x="6084720" y="3573360"/>
            <a:ext cx="1930680" cy="25830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40"/>
                            </p:stCondLst>
                            <p:childTnLst>
                              <p:par>
                                <p:cTn id="3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664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52" name="Text Box 3"/>
          <p:cNvSpPr/>
          <p:nvPr/>
        </p:nvSpPr>
        <p:spPr>
          <a:xfrm>
            <a:off x="451800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4360" y="498960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00"/>
                </a:solidFill>
                <a:latin typeface="Monotype Corsiva"/>
              </a:rPr>
              <a:t>Пётр Ильич Чайковский</a:t>
            </a:r>
            <a:br>
              <a:rPr sz="3200"/>
            </a:br>
            <a:r>
              <a:rPr b="0" lang="en-US" sz="2400" spc="-1" strike="noStrike">
                <a:solidFill>
                  <a:srgbClr val="5a2d00"/>
                </a:solidFill>
                <a:latin typeface="Monotype Corsiva"/>
              </a:rPr>
              <a:t>(1840-1893)</a:t>
            </a:r>
            <a:br>
              <a:rPr sz="2400"/>
            </a:br>
            <a:r>
              <a:rPr b="1" lang="en-US" sz="2800" spc="-1" strike="noStrike">
                <a:solidFill>
                  <a:srgbClr val="5a2d00"/>
                </a:solidFill>
                <a:latin typeface="Monotype Corsiva"/>
              </a:rPr>
              <a:t>«Битва с мышами» из балета «Щелкун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Picture 5" descr="467px-Porträt_des_Komponisten_Pjotr_I"/>
          <p:cNvPicPr/>
          <p:nvPr/>
        </p:nvPicPr>
        <p:blipFill>
          <a:blip r:embed="rId2"/>
          <a:srcRect l="-688" t="0" r="-1222" b="0"/>
          <a:stretch/>
        </p:blipFill>
        <p:spPr>
          <a:xfrm>
            <a:off x="2843280" y="546120"/>
            <a:ext cx="3548160" cy="4467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55" name="Picture 7" descr="movie-projector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748720" y="6453360"/>
            <a:ext cx="395280" cy="371160"/>
          </a:xfrm>
          <a:prstGeom prst="rect">
            <a:avLst/>
          </a:prstGeom>
          <a:ln w="0">
            <a:noFill/>
          </a:ln>
        </p:spPr>
      </p:pic>
      <p:pic>
        <p:nvPicPr>
          <p:cNvPr id="1456" name="" descr=""/>
          <p:cNvPicPr/>
          <p:nvPr/>
        </p:nvPicPr>
        <p:blipFill>
          <a:blip r:embed="rId4"/>
          <a:stretch/>
        </p:blipFill>
        <p:spPr>
          <a:xfrm>
            <a:off x="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82986" fill="hold"/>
                                        <p:tgtEl>
                                          <p:spTgt spid="1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2520" y="4971600"/>
            <a:ext cx="824544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Monotype Corsiva"/>
              </a:rPr>
              <a:t>Пётр Ильич Чайковский</a:t>
            </a:r>
            <a:br>
              <a:rPr sz="32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(1840-1893)</a:t>
            </a: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«Вальс снежных хлопьев» из балета «Щелкун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Picture 6" descr="movie-projector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8748720" y="6453360"/>
            <a:ext cx="395280" cy="37116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8" descr="467px-Porträt_des_Komponisten_Pjotr_I"/>
          <p:cNvPicPr/>
          <p:nvPr/>
        </p:nvPicPr>
        <p:blipFill>
          <a:blip r:embed="rId3"/>
          <a:srcRect l="-688" t="0" r="-1222" b="0"/>
          <a:stretch/>
        </p:blipFill>
        <p:spPr>
          <a:xfrm>
            <a:off x="2881440" y="547560"/>
            <a:ext cx="3547800" cy="4465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152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545840" y="414000"/>
            <a:ext cx="432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В основу оперы,</a:t>
            </a: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5"/>
          <p:cNvSpPr/>
          <p:nvPr/>
        </p:nvSpPr>
        <p:spPr>
          <a:xfrm>
            <a:off x="5211000" y="66996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бал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6"/>
          <p:cNvSpPr/>
          <p:nvPr/>
        </p:nvSpPr>
        <p:spPr>
          <a:xfrm>
            <a:off x="131112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7"/>
          <p:cNvSpPr/>
          <p:nvPr/>
        </p:nvSpPr>
        <p:spPr>
          <a:xfrm>
            <a:off x="1550160" y="1214280"/>
            <a:ext cx="57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Берётся «книжечка» - 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8" descr="sadko_big"/>
          <p:cNvPicPr/>
          <p:nvPr/>
        </p:nvPicPr>
        <p:blipFill>
          <a:blip r:embed="rId2"/>
          <a:srcRect l="8590" t="0" r="324" b="0"/>
          <a:stretch/>
        </p:blipFill>
        <p:spPr>
          <a:xfrm>
            <a:off x="1044720" y="1989000"/>
            <a:ext cx="4017960" cy="2489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158" name="Picture 9" descr="nutcr18"/>
          <p:cNvPicPr/>
          <p:nvPr/>
        </p:nvPicPr>
        <p:blipFill>
          <a:blip r:embed="rId3"/>
          <a:srcRect l="0" t="7710" r="0" b="0"/>
          <a:stretch/>
        </p:blipFill>
        <p:spPr>
          <a:xfrm>
            <a:off x="4070520" y="3573360"/>
            <a:ext cx="4030560" cy="2479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3300"/>
                </a:solidFill>
                <a:latin typeface="Monotype Corsiva"/>
              </a:rPr>
              <a:t>ХО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0661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- 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латинское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horus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,  буквально – толпа, собрание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евческий коллектив, исполняющий вокальную   музыку,   преимущественно многоголосну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Хором     называют        музыкальное произведение,    предназначенное     для исполнения певческим коллектив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a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Monotype Corsiva"/>
              </a:rPr>
              <a:t>ВОКАЛИ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064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a2d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-   (французское vocalize,  от   латинского vocalis-гласный звук, звучащий, поющий), специальное   упражнение    для     голоса, исполняемое без слов, на гласный звук.                         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   Однако встречаются вокализы, имеющие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большое  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художественное  знач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3" descr=""/>
          <p:cNvPicPr/>
          <p:nvPr/>
        </p:nvPicPr>
        <p:blipFill>
          <a:blip r:embed="rId2"/>
          <a:srcRect l="8958" t="26794" r="33152" b="17478"/>
          <a:stretch/>
        </p:blipFill>
        <p:spPr>
          <a:xfrm>
            <a:off x="468360" y="939960"/>
            <a:ext cx="8207280" cy="493704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"/>
          <p:cNvPicPr/>
          <p:nvPr/>
        </p:nvPicPr>
        <p:blipFill>
          <a:blip r:embed="rId3"/>
          <a:stretch/>
        </p:blipFill>
        <p:spPr>
          <a:xfrm>
            <a:off x="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4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47516" fill="hold"/>
                                        <p:tgtEl>
                                          <p:spTgt spid="1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47516" fill="hold"/>
                                        <p:tgtEl>
                                          <p:spTgt spid="1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72" name="Text Box 3"/>
          <p:cNvSpPr/>
          <p:nvPr/>
        </p:nvSpPr>
        <p:spPr>
          <a:xfrm>
            <a:off x="762120" y="5486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Горизонтальный свиток 3"/>
          <p:cNvSpPr/>
          <p:nvPr/>
        </p:nvSpPr>
        <p:spPr>
          <a:xfrm>
            <a:off x="1116000" y="836640"/>
            <a:ext cx="6840720" cy="9367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5"/>
          <p:cNvSpPr/>
          <p:nvPr/>
        </p:nvSpPr>
        <p:spPr>
          <a:xfrm>
            <a:off x="755640" y="472428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Мариинский театр                  Санкт-Петербург              Театральная площадь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5" name="Picture 16" descr="mariinka1"/>
          <p:cNvPicPr/>
          <p:nvPr/>
        </p:nvPicPr>
        <p:blipFill>
          <a:blip r:embed="rId2"/>
          <a:stretch/>
        </p:blipFill>
        <p:spPr>
          <a:xfrm>
            <a:off x="755640" y="2060640"/>
            <a:ext cx="3816360" cy="2530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76" name="Picture 17" descr="p_f"/>
          <p:cNvPicPr/>
          <p:nvPr/>
        </p:nvPicPr>
        <p:blipFill>
          <a:blip r:embed="rId3"/>
          <a:stretch/>
        </p:blipFill>
        <p:spPr>
          <a:xfrm>
            <a:off x="4716360" y="2081160"/>
            <a:ext cx="3743280" cy="2498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sp>
        <p:nvSpPr>
          <p:cNvPr id="1477" name="Text Box 18"/>
          <p:cNvSpPr/>
          <p:nvPr/>
        </p:nvSpPr>
        <p:spPr>
          <a:xfrm>
            <a:off x="4788000" y="472284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Михайловский театр         Санкт-Петербург                Площадь Искусств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79" name="Text Box 3"/>
          <p:cNvSpPr/>
          <p:nvPr/>
        </p:nvSpPr>
        <p:spPr>
          <a:xfrm>
            <a:off x="762120" y="5486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Горизонтальный свиток 3"/>
          <p:cNvSpPr/>
          <p:nvPr/>
        </p:nvSpPr>
        <p:spPr>
          <a:xfrm>
            <a:off x="1116000" y="836640"/>
            <a:ext cx="6840720" cy="9367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5"/>
          <p:cNvSpPr/>
          <p:nvPr/>
        </p:nvSpPr>
        <p:spPr>
          <a:xfrm>
            <a:off x="1042920" y="2062080"/>
            <a:ext cx="698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Найти имена композиторов, которые писали музыку к балету на сказочный сюж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Кто эти композитор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Какие балет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На чьи сказ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Привести в тетради 2-3 примера.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483" name="Text Box 3"/>
          <p:cNvSpPr/>
          <p:nvPr/>
        </p:nvSpPr>
        <p:spPr>
          <a:xfrm>
            <a:off x="385128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4"/>
          <p:cNvSpPr/>
          <p:nvPr/>
        </p:nvSpPr>
        <p:spPr>
          <a:xfrm>
            <a:off x="0" y="260280"/>
            <a:ext cx="914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втор проекта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ru-RU" sz="4400" spc="-1" strike="noStrike">
                <a:solidFill>
                  <a:srgbClr val="663300"/>
                </a:solidFill>
                <a:latin typeface="Monotype Corsiva"/>
              </a:rPr>
              <a:t>Никифорова Наталья Михайл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учитель музыки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Физико-математического лицея №239 Санкт-Петербур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5" name="Picture 5" descr="Я"/>
          <p:cNvPicPr/>
          <p:nvPr/>
        </p:nvPicPr>
        <p:blipFill>
          <a:blip r:embed="rId2">
            <a:lum bright="-6000"/>
          </a:blip>
          <a:srcRect l="12788" t="3141" r="0" b="2874"/>
          <a:stretch/>
        </p:blipFill>
        <p:spPr>
          <a:xfrm>
            <a:off x="3132000" y="2271600"/>
            <a:ext cx="2909880" cy="4181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9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160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46"/>
          <p:cNvSpPr/>
          <p:nvPr/>
        </p:nvSpPr>
        <p:spPr>
          <a:xfrm>
            <a:off x="3419640" y="21528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   И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   Е   Т   Т   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205" name="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98200" y="404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Бах, Чайковский, Моцарт, Глинка,</a:t>
            </a: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6348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954000" y="1197000"/>
            <a:ext cx="743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Арфа, флейта, рояль, скрип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962280" y="1773360"/>
            <a:ext cx="480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Хор, солистов голо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973800" y="2349360"/>
            <a:ext cx="425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Всех подружил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2"/>
          <a:srcRect l="3389" t="550" r="2110" b="1101"/>
          <a:stretch/>
        </p:blipFill>
        <p:spPr>
          <a:xfrm>
            <a:off x="755640" y="1989000"/>
            <a:ext cx="2109960" cy="2665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12" name="" descr=""/>
          <p:cNvPicPr/>
          <p:nvPr/>
        </p:nvPicPr>
        <p:blipFill>
          <a:blip r:embed="rId3"/>
          <a:srcRect l="0" t="5466" r="3851" b="0"/>
          <a:stretch/>
        </p:blipFill>
        <p:spPr>
          <a:xfrm>
            <a:off x="2556000" y="2381400"/>
            <a:ext cx="2141280" cy="2703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13" name="" descr=""/>
          <p:cNvPicPr/>
          <p:nvPr/>
        </p:nvPicPr>
        <p:blipFill>
          <a:blip r:embed="rId4">
            <a:lum bright="-6000"/>
          </a:blip>
          <a:srcRect l="14751" t="6605" r="27231" b="42931"/>
          <a:stretch/>
        </p:blipFill>
        <p:spPr>
          <a:xfrm>
            <a:off x="4226040" y="2800440"/>
            <a:ext cx="2138400" cy="2716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14" name="" descr=""/>
          <p:cNvPicPr/>
          <p:nvPr/>
        </p:nvPicPr>
        <p:blipFill>
          <a:blip r:embed="rId5"/>
          <a:srcRect l="14808" t="4528" r="20531" b="0"/>
          <a:stretch/>
        </p:blipFill>
        <p:spPr>
          <a:xfrm>
            <a:off x="6035760" y="3225960"/>
            <a:ext cx="2149560" cy="2724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15" name="" descr=""/>
          <p:cNvPicPr/>
          <p:nvPr/>
        </p:nvPicPr>
        <p:blipFill>
          <a:blip r:embed="rId6">
            <a:lum bright="-30000"/>
          </a:blip>
          <a:stretch/>
        </p:blipFill>
        <p:spPr>
          <a:xfrm>
            <a:off x="114480" y="2349360"/>
            <a:ext cx="2873160" cy="367200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7">
            <a:lum bright="-6000"/>
          </a:blip>
          <a:stretch/>
        </p:blipFill>
        <p:spPr>
          <a:xfrm rot="19546200">
            <a:off x="1618920" y="393192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/>
          <p:cNvPicPr/>
          <p:nvPr/>
        </p:nvPicPr>
        <p:blipFill>
          <a:blip r:embed="rId8"/>
          <a:stretch/>
        </p:blipFill>
        <p:spPr>
          <a:xfrm>
            <a:off x="3059280" y="2133720"/>
            <a:ext cx="3925800" cy="439092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/>
          <p:cNvPicPr/>
          <p:nvPr/>
        </p:nvPicPr>
        <p:blipFill>
          <a:blip r:embed="rId9">
            <a:lum bright="-6000"/>
          </a:blip>
          <a:stretch/>
        </p:blipFill>
        <p:spPr>
          <a:xfrm rot="21020400">
            <a:off x="6424200" y="3341160"/>
            <a:ext cx="2179800" cy="266400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10"/>
          <a:srcRect l="8220" t="14696" r="0" b="0"/>
          <a:stretch/>
        </p:blipFill>
        <p:spPr>
          <a:xfrm>
            <a:off x="820800" y="2400480"/>
            <a:ext cx="3887640" cy="2709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20" name="" descr=""/>
          <p:cNvPicPr/>
          <p:nvPr/>
        </p:nvPicPr>
        <p:blipFill>
          <a:blip r:embed="rId11"/>
          <a:srcRect l="0" t="0" r="4596" b="0"/>
          <a:stretch/>
        </p:blipFill>
        <p:spPr>
          <a:xfrm>
            <a:off x="4324320" y="3244680"/>
            <a:ext cx="3887640" cy="2710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21" name="Picture 10" descr="CC000552"/>
          <p:cNvPicPr/>
          <p:nvPr/>
        </p:nvPicPr>
        <p:blipFill>
          <a:blip r:embed="rId12"/>
          <a:stretch/>
        </p:blipFill>
        <p:spPr>
          <a:xfrm>
            <a:off x="3276720" y="353700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223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46"/>
          <p:cNvSpPr/>
          <p:nvPr/>
        </p:nvSpPr>
        <p:spPr>
          <a:xfrm>
            <a:off x="2050920" y="26114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М   У   З   Ы   К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47"/>
          <p:cNvSpPr/>
          <p:nvPr/>
        </p:nvSpPr>
        <p:spPr>
          <a:xfrm>
            <a:off x="3340080" y="537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5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269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55280" y="285228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Бывает драматический, 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бывает музыкальный.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Ему сопутствует успех, обычно, 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колоссальный!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Его придумал режиссёр,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играют в нём артисты.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Идёт в театре и порой - на сцене 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всё, как в жизн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272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46"/>
          <p:cNvSpPr/>
          <p:nvPr/>
        </p:nvSpPr>
        <p:spPr>
          <a:xfrm>
            <a:off x="1224000" y="306864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  П   Е   К    Т   А   К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Л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317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552680" y="286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Спектакль на славу удался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И публика довольна вся!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Художнику особые овации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За красочные…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320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46"/>
          <p:cNvSpPr/>
          <p:nvPr/>
        </p:nvSpPr>
        <p:spPr>
          <a:xfrm>
            <a:off x="3859200" y="3521160"/>
            <a:ext cx="41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Д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Е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К   О   Р   А   Ц   И 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500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500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500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52:06Z</dcterms:created>
  <dc:creator>239</dc:creator>
  <dc:description/>
  <dc:language>en-US</dc:language>
  <cp:lastModifiedBy>Татьяна Федоровна</cp:lastModifiedBy>
  <dcterms:modified xsi:type="dcterms:W3CDTF">2012-01-05T10:13:15Z</dcterms:modified>
  <cp:revision>29</cp:revision>
  <dc:subject/>
  <dc:title>Тема урока:  «Второе путешествие  в музыкальный театр»    </dc:title>
</cp:coreProperties>
</file>